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60280" y="682200"/>
            <a:ext cx="45385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0DC5E2D2-583A-4C69-8E4A-750E29D0F1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48FEEA4-E5B5-4445-B7BB-E5FCF36F7B9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D75-768C-49CC-A4A1-354D3D8A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BF1-37D8-4FDA-8290-DEF71DB4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DF5-CFC5-452B-9159-F321726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87F-EDAC-45CF-B615-3FFC8AD2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5298-FC86-436B-8F67-4AD1186A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0200-B34C-41C3-8FF3-FA239CFE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E1D0-F26E-435F-83F5-BE0C8D04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D3A6-E4C8-42F0-A783-D0B01FE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A380-3A80-4531-8A81-AAADAF75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D39A-8873-4F81-9BE9-DECE9FEC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105D-4D17-4BE8-BA34-89892D58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913-512B-44B0-B079-18826488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7C2B-50B7-4355-A477-17682E88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D62B-63B0-434A-882A-66776FA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6066-1DE6-49E3-AD81-69095E87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ABD5-8EF7-46AC-A47C-CD723E68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5EDD-6C64-4B49-9BED-BEE2C81D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319-63D7-4015-AF2A-5A043F8D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F6F-3FAC-48ED-8D3E-CAAA460E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48F-1A89-4ABC-B45B-E4A3AA6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984-F49C-4FCC-B6C3-E3E17D79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E47-4125-40B5-A1CA-25B469F5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9E1-CACC-4E72-95DF-94B4A332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D6D-180A-4FE3-9870-D201966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E401-F184-4E52-B601-2798BD9BACD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C07D-9984-45AB-AE6D-FB71229373C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C615-FD12-4B0E-BF64-B1EE9C53AC1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3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28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Kaye Apple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Silvana Si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E05D-7493-475D-A2FF-3E83BA5551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0440" y="560160"/>
            <a:ext cx="8207280" cy="19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Patterning &amp; Linea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lations Manipulatives &amp; Technology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360" y="293220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b78c"/>
                </a:solidFill>
                <a:latin typeface="Century Gothic"/>
              </a:rPr>
              <a:t>Explore these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04800" y="3470400"/>
            <a:ext cx="8132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A:  TI-Nspir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F:   Square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B:  CBR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G:  Growing Pattern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C:  Gizmo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H:  Real-lif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D:  CLIP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I:  Matching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E:   GSP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J:  Algebra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16F3-FFFC-436B-913C-CCF67356ED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22400" y="2378160"/>
            <a:ext cx="889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do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nect to Big Ideas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Learning Goals?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850-8AD6-45C7-BADB-022C78B0B5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0840" y="2787480"/>
            <a:ext cx="3882960" cy="3799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325440" y="1039680"/>
            <a:ext cx="8475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Mathematical Processes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did you experience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en answering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BE29-90BC-4361-A512-1B6E3528BA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774720" y="2376360"/>
            <a:ext cx="755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help students over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tumbling bl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DCC0-A525-426A-A768-08BAFFFF7D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89800" y="2037960"/>
            <a:ext cx="8562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open or parallel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questions could be asked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o all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ave an entry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89FD-BED6-4747-AE38-1A8BB1BD01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93800" y="2376360"/>
            <a:ext cx="755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it be used to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prom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math discou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1B54-8707-41F2-9077-1E10E1C24E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218960"/>
            <a:ext cx="8480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flecting on today’s activit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ich activities would I like to integrate into my program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I need to learn mo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6A6-FAC5-4B65-AF2F-94FC4CA6FD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as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49280" y="2209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reate a parallel task that is appropriate for your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Anthony</cp:lastModifiedBy>
  <dcterms:modified xsi:type="dcterms:W3CDTF">2009-08-24T05:37:57Z</dcterms:modified>
  <cp:revision>152</cp:revision>
  <dc:subject/>
  <dc:title>Math GAINS 2008-09</dc:title>
</cp:coreProperties>
</file>